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ADAD02-40A2-43EE-87AA-B8D009FE1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52923E1-F1AD-430E-8F10-79D318080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737A19-C302-401E-B426-5B239BFC3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0D7186-21AD-4F63-B802-2C04E9D30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710D58-7D14-476C-838B-199B12E8D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7F93BD-7C57-4448-B048-84014AC87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78E45E9-7B70-4DC2-9706-CE925FF0F8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84C46-7D66-48E2-AEA8-874574D536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D89EF1-5192-4BAC-9DD8-38DEDCB0997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B8B49A8-4148-4D5F-B675-C982FEE73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9F211BD-0A29-46D6-9703-93C459C14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6BA36E-2684-4D81-85AA-53794AB20B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C712AB-9760-4404-9B70-1D489BD8F5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84E11-4ACA-409A-BA6F-2AF4F9506D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ED16-867F-425B-824B-CC08E5458ED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oval"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oval"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oval"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oval"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oval"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oval"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oval"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oval"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oval"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oval"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oval"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oval"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oval"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oval"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oval"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oval"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oval"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oval"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oval"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oval"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oval"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oval"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oval"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oval"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oval"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oval"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